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327650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3E3F-6055-4EE6-96B2-62864C9F25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51548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7F6B-5D91-4071-8C52-93EB2439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1872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ADFAB-D6DD-4C34-904D-0211CAA0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844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7040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844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7040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58B1-5987-4472-967C-1EF9DCD0FB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6840" y="403200"/>
            <a:ext cx="45892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0319D-8028-403E-AC5C-1C1607AA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71872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6840" y="451548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71872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1844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7040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6684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191844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347040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4063-5CD5-4DAE-BB40-B360584D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1AFC-9AF6-462B-9E9A-2F337C39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3872-96F8-4EC3-8EDC-74646D46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403200"/>
            <a:ext cx="45892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24AAA-9706-4B73-94FC-DDC95C1C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D4F6A-08A1-44E4-BD45-500561EA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1872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2449-2B0D-4387-BB08-37230BEB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FB467-A513-48AC-A817-DFD212EC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6840" y="7007400"/>
            <a:ext cx="11937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AU" sz="6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6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65440" y="7007400"/>
            <a:ext cx="1796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62360" y="7007400"/>
            <a:ext cx="11937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AU" sz="6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BF1E1841-F134-4112-B7EB-60D1EC6CCA35}" type="slidenum">
              <a:rPr b="0" lang="en-AU" sz="6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27640" cy="754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41240" y="4025880"/>
            <a:ext cx="383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1400" spc="-1" strike="noStrike">
                <a:solidFill>
                  <a:srgbClr val="1db2ac"/>
                </a:solidFill>
                <a:latin typeface="Calibri"/>
              </a:rPr>
              <a:t>Ide írd a köszönő szöveg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0T02:45:02Z</dcterms:created>
  <dc:creator>Aaron Hill</dc:creator>
  <dc:description/>
  <dc:language>en-US</dc:language>
  <cp:lastModifiedBy/>
  <dcterms:modified xsi:type="dcterms:W3CDTF">2020-06-12T10:15:45Z</dcterms:modified>
  <cp:revision>9</cp:revision>
  <dc:subject/>
  <dc:title>PowerPoint Presentation</dc:title>
</cp:coreProperties>
</file>