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3276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7A5B-30BD-4822-A703-30295BE30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13AB-1F2A-4B11-B701-D16D66D3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A971-DEF2-4BA0-B530-1205EC9E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80A1-72E4-4A6A-BB72-31A1B860B4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B381-AB88-44B8-B885-623396B3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E24E-44F4-4549-8F10-EF137B5D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62CB-2630-4CD6-8164-70135574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3939-FE98-4D4A-A96C-8B019D1B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5EB8-9D13-4806-A778-17E27E6A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5167-3CD9-4C69-9378-0C2B6C6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2BF9-C787-4580-8829-3208C140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8044-A4A5-4664-A99D-2DAC22D3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684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65440" y="7007400"/>
            <a:ext cx="17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6236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292818A8-BF0A-4D31-866A-DBC68F2609B9}" type="slidenum"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27640" cy="754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38200" y="402588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438200" y="485784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Cí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438200" y="569124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Időpo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438200" y="652320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Telefonsz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0T02:45:02Z</dcterms:created>
  <dc:creator>Aaron Hill</dc:creator>
  <dc:description/>
  <dc:language>en-US</dc:language>
  <cp:lastModifiedBy/>
  <dcterms:modified xsi:type="dcterms:W3CDTF">2020-06-12T10:08:52Z</dcterms:modified>
  <cp:revision>6</cp:revision>
  <dc:subject/>
  <dc:title>PowerPoint Presentation</dc:title>
</cp:coreProperties>
</file>